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BA91-57BE-4398-9AC5-920D0442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CA5F-5296-4950-91AF-799D530C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B551-BD28-496F-8D79-95E43B2A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C332-40F9-47EE-ADAF-94CDC2F8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0BF2-4A17-4485-B984-3E7C4964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6611-D8FA-4E45-86AB-79B92B9A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989-55A3-40FA-93C6-E42D0F84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48C4-26EA-4A00-8AFF-A2F39C42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A67E-1281-4E3A-8663-D2EAEC52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4244-CE57-4C1F-BA91-73E9BF80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0422-4DCC-431F-8E4F-74306AEF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28BF-2857-445D-917B-EC97C3F5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FC2E-AA14-4E8C-A7BF-4CE27CDB0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freepalymusic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http://web.mit.edu/invent/iow/cade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533520"/>
            <a:ext cx="57913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prstDash val="dashDot"/>
                  <a:miter/>
                </a:ln>
                <a:solidFill>
                  <a:srgbClr val="1d41f7"/>
                </a:solidFill>
                <a:latin typeface="Arial Black"/>
              </a:rPr>
              <a:t>Gatorade</a:t>
            </a:r>
            <a:endParaRPr b="0" lang="en-US" sz="1800" spc="1" strike="noStrike">
              <a:ln w="9360">
                <a:solidFill>
                  <a:srgbClr val="000000"/>
                </a:solidFill>
                <a:prstDash val="dashDot"/>
                <a:miter/>
              </a:ln>
              <a:solidFill>
                <a:srgbClr val="1d41f7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6553080" y="1828800"/>
            <a:ext cx="21877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entury Gothic"/>
              </a:rPr>
              <a:t>Tr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entury Gothic"/>
              </a:rPr>
              <a:t>Monday, March 08,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entury Gothic"/>
              </a:rPr>
              <a:t>Perio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entury Gothic"/>
              </a:rPr>
              <a:t>Computer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95680" y="3429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71600" y="5029200"/>
            <a:ext cx="464832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entury Gothic"/>
              </a:rPr>
              <a:t>Sound: Free play Music, </a:t>
            </a:r>
            <a:r>
              <a:rPr b="0" lang="en-US" sz="1800" spc="-1" strike="noStrike" u="sng">
                <a:solidFill>
                  <a:srgbClr val="3399ff"/>
                </a:solidFill>
                <a:uFillTx/>
                <a:latin typeface="Century Gothic"/>
              </a:rPr>
              <a:t>Bring it on, March 11,201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www.freepal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Cade"/>
          <p:cNvPicPr/>
          <p:nvPr/>
        </p:nvPicPr>
        <p:blipFill>
          <a:blip r:embed="rId2"/>
          <a:stretch/>
        </p:blipFill>
        <p:spPr>
          <a:xfrm>
            <a:off x="4343400" y="457200"/>
            <a:ext cx="4114800" cy="3165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838080" y="1752480"/>
            <a:ext cx="5029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59120" y="4194000"/>
            <a:ext cx="45626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entury Gothic"/>
              </a:rPr>
              <a:t>Lemelson MIT, </a:t>
            </a:r>
            <a:r>
              <a:rPr b="0" lang="en-US" sz="1800" spc="-1" strike="noStrike" u="sng">
                <a:solidFill>
                  <a:srgbClr val="3399ff"/>
                </a:solidFill>
                <a:uFillTx/>
                <a:latin typeface="Century Gothic"/>
              </a:rPr>
              <a:t>Gatorade, </a:t>
            </a:r>
            <a:r>
              <a:rPr b="0" lang="en-US" sz="1800" spc="-1" strike="noStrike">
                <a:solidFill>
                  <a:srgbClr val="3399ff"/>
                </a:solidFill>
                <a:latin typeface="Century Gothic"/>
              </a:rPr>
              <a:t>March 9,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http://web.mit.edu/invent/iow/cad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838080"/>
            <a:ext cx="236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entury Gothic"/>
              </a:rPr>
              <a:t>Robert Cade invented Gatorade For the Florida Gators to help keep highd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Invention : Gato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Century Gothic"/>
              </a:rPr>
              <a:t>Gatorade is used all over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Century Gothic"/>
              </a:rPr>
              <a:t>Made for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Century Gothic"/>
              </a:rPr>
              <a:t>Named after the football team the G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Century Gothic"/>
              </a:rPr>
              <a:t>Was credited for a win in the orange bow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Century Gothic"/>
              </a:rPr>
              <a:t>Gatorade has 15 flav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41f7"/>
                </a:solidFill>
                <a:latin typeface="Arial"/>
              </a:rPr>
              <a:t>Inventor: Robert C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e was born in September 27,1927 in Flor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e went to the university of Tex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e invented Gato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for the Florida Gators football team because they weren’t getting enough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ad an agreement to send Gatorade to the team every football se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e is a medical researc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9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4:14:52Z</dcterms:created>
  <dc:creator>install</dc:creator>
  <dc:description/>
  <dc:language>en-US</dc:language>
  <cp:lastModifiedBy>install</cp:lastModifiedBy>
  <dcterms:modified xsi:type="dcterms:W3CDTF">2010-03-18T13:42:01Z</dcterms:modified>
  <cp:revision>7</cp:revision>
  <dc:subject/>
  <dc:title>Slide 1</dc:title>
</cp:coreProperties>
</file>